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wmf" ContentType="image/x-wmf"/>
  <Override PartName="/ppt/media/image20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34.wmf" ContentType="image/x-wmf"/>
  <Override PartName="/ppt/media/image13.jpeg" ContentType="image/jpeg"/>
  <Override PartName="/ppt/media/image3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7.wmf" ContentType="image/x-wmf"/>
  <Override PartName="/ppt/media/image9.wmf" ContentType="image/x-wmf"/>
  <Override PartName="/ppt/media/image39.wmf" ContentType="image/x-wmf"/>
  <Override PartName="/ppt/media/image32.jpeg" ContentType="image/jpeg"/>
  <Override PartName="/ppt/media/image33.wmf" ContentType="image/x-wmf"/>
  <Override PartName="/ppt/media/image12.jpeg" ContentType="image/jpeg"/>
  <Override PartName="/ppt/media/image11.png" ContentType="image/png"/>
  <Override PartName="/ppt/media/image31.png" ContentType="image/png"/>
  <Override PartName="/ppt/media/image29.wmf" ContentType="image/x-wmf"/>
  <Override PartName="/ppt/media/image10.wmf" ContentType="image/x-wmf"/>
  <Override PartName="/ppt/media/image4.jpeg" ContentType="image/jpeg"/>
  <Override PartName="/ppt/media/image19.jpeg" ContentType="image/jpeg"/>
  <Override PartName="/ppt/media/image25.png" ContentType="image/png"/>
  <Override PartName="/ppt/media/image3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6.png" ContentType="image/png"/>
  <Override PartName="/ppt/media/image2.jpeg" ContentType="image/jpeg"/>
  <Override PartName="/ppt/media/image23.jpeg" ContentType="image/jpeg"/>
  <Override PartName="/ppt/media/image5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2F5-E5C0-4B43-B75A-BD97C977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0DCA-281D-4BD1-8A18-23B6AD88A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CD1E-3C07-4755-BADC-0223540C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0B32-2A30-4175-B009-DCC088B55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3B19-33AB-40DE-8B6A-329882A6B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17BA-CC9A-416E-98EA-18F0CCD6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300C-7F81-42F3-AD54-C8B3C85B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F5B2-F726-426D-A0B1-1BD89126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855B-55C5-48A1-B51F-777FAE52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8020-A2A4-4B77-ADA7-8D0215520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64F-6B5E-4FDC-AE34-1CC6E8314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C5DD-0829-4FC0-A0DC-A6B3749AA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9500-1544-4848-8F88-0FDDA0B80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1734-AD77-4734-93F0-7EC8A3A5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0FE2-4123-4ECE-A112-2E0B8D4F9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3CE9-3DA4-47D9-B7AF-2999EF9DF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61E2-E59F-432C-A152-561518D5A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4D3E-660D-4338-B8F1-47CB7D02E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C8F-1DBB-4ABF-8333-5FD97CEC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AA528-03FE-4C3B-BE4C-7B55210E9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38568-EEAA-4081-BFBC-8FB1DAA03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EEAC-9E48-4C3C-B3A1-FE40890AE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6C8A-6E6D-4C4A-9820-47FF87D10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A371-F197-4E58-BD00-040747CA2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144E-40D6-45AC-832D-AAD2B08202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B523-C0AB-4F20-8C82-9EEBCE213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49FF-0A8F-4F0E-BBBE-6728A9AC45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EA864-713E-4901-A66A-7CAD58E71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BD2CB-9390-44ED-B810-FF9FFF3E0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6A3D-3302-401D-BFE6-F5AAC0A8D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744E-7BF5-425E-8027-2472B25049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DC7E-0E0D-4131-A9CF-1C6721ED3F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gif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image" Target="../media/image37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9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Gestion de l’in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73102-6BA1-4195-99E3-7FE9A9319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gistres/feuilles de travail et processus de vérific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8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0" descr="5_req_form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3"/>
          <p:cNvSpPr/>
          <p:nvPr/>
        </p:nvSpPr>
        <p:spPr>
          <a:xfrm rot="5400000">
            <a:off x="4419720" y="2666880"/>
            <a:ext cx="83808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43E9-3682-4759-A62A-18676D0E2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tection des donné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Text Box 22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685800" y="1600200"/>
            <a:ext cx="69343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pap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des matériaux d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ocker les registres prop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Systèmes informatis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voir des sauvegardes régulières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F48C-8578-424B-A117-112EF5E3D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téger la confidentialité / sécur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1" name="Picture 19" descr="j0178425"/>
          <p:cNvPicPr/>
          <p:nvPr/>
        </p:nvPicPr>
        <p:blipFill>
          <a:blip r:embed="rId1"/>
          <a:stretch/>
        </p:blipFill>
        <p:spPr>
          <a:xfrm>
            <a:off x="3657600" y="4608360"/>
            <a:ext cx="2590920" cy="17528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1"/>
          <p:cNvSpPr/>
          <p:nvPr/>
        </p:nvSpPr>
        <p:spPr>
          <a:xfrm>
            <a:off x="533520" y="1219320"/>
            <a:ext cx="807696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irecteur de laboratoire est responsables de la mise en place de lignes de conduite et de procédures pour :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téger l’intimité des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confidentialité des donné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3" descr="j0409031"/>
          <p:cNvPicPr/>
          <p:nvPr/>
        </p:nvPicPr>
        <p:blipFill>
          <a:blip r:embed="rId2"/>
          <a:stretch/>
        </p:blipFill>
        <p:spPr>
          <a:xfrm>
            <a:off x="1295280" y="459756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6" descr="MCj02506500000[1]"/>
          <p:cNvPicPr/>
          <p:nvPr/>
        </p:nvPicPr>
        <p:blipFill>
          <a:blip r:embed="rId3"/>
          <a:stretch/>
        </p:blipFill>
        <p:spPr>
          <a:xfrm>
            <a:off x="5334120" y="4684680"/>
            <a:ext cx="17985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CF23-6451-4493-A8B9-0138EDBDB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s de compte rendu des résultats d’analys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38088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2666880" y="2590920"/>
            <a:ext cx="441972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i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ilement compréh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6"/>
          <p:cNvSpPr/>
          <p:nvPr/>
        </p:nvSpPr>
        <p:spPr>
          <a:xfrm>
            <a:off x="457200" y="3200400"/>
            <a:ext cx="1447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Echantillon 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nalyse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A: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433870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18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resse: 1234 Littletown Road, Bergly Bay</a:t>
            </a:r>
            <a:br>
              <a:rPr sz="1600"/>
            </a:b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39F8-8855-41E4-9A2C-B015FC265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j0422773"/>
          <p:cNvPicPr/>
          <p:nvPr/>
        </p:nvPicPr>
        <p:blipFill>
          <a:blip r:embed="rId1"/>
          <a:stretch/>
        </p:blipFill>
        <p:spPr>
          <a:xfrm>
            <a:off x="6248520" y="4724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3" descr="j0151699"/>
          <p:cNvPicPr/>
          <p:nvPr/>
        </p:nvPicPr>
        <p:blipFill>
          <a:blip r:embed="rId2"/>
          <a:stretch/>
        </p:blipFill>
        <p:spPr>
          <a:xfrm>
            <a:off x="7162920" y="184464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velopper un bon système pour communique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 sei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es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autre personnel soign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laboratoires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vec organismes offic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7086600" y="32925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Tekton Pro"/>
              </a:rPr>
              <a:t>Différentes équ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E27E-AB84-4221-A519-4A47B886E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5"/>
          <p:cNvGrpSpPr/>
          <p:nvPr/>
        </p:nvGrpSpPr>
        <p:grpSpPr>
          <a:xfrm>
            <a:off x="380880" y="533520"/>
            <a:ext cx="8381880" cy="5757480"/>
            <a:chOff x="380880" y="533520"/>
            <a:chExt cx="8381880" cy="5757480"/>
          </a:xfrm>
        </p:grpSpPr>
        <p:sp>
          <p:nvSpPr>
            <p:cNvPr id="255" name="AutoShape 4"/>
            <p:cNvSpPr/>
            <p:nvPr/>
          </p:nvSpPr>
          <p:spPr>
            <a:xfrm>
              <a:off x="380880" y="533520"/>
              <a:ext cx="8381880" cy="57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ystèm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formatiqu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incompati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Erreurs d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transmis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 peu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organis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Archivage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médioc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 inadéqua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suffi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onné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incomplè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AutoShape 21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3124080" y="28954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Problèmes cou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8178-05D1-44F0-9D93-04B8F6D880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6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0"/>
          <p:cNvSpPr/>
          <p:nvPr/>
        </p:nvSpPr>
        <p:spPr>
          <a:xfrm>
            <a:off x="457200" y="1219320"/>
            <a:ext cx="6095880" cy="60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equière des registres et des carnets bien conçu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s à utiliser et faciles à rempl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cilite la recherche de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i facilite la rédaction des compte-rendus et le résumé des donn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j0408884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E408-21AA-424D-82E9-99B61F774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04920" y="33526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6324480" y="54864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Nom du village pas enregistr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ans la colonne vil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457200" y="304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trée des donné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97A-E241-4837-A2FA-5348BFE89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296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685800" y="3048120"/>
            <a:ext cx="2590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Illisible- l’encre a traversé de l’autre côté de la feu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3657600" y="3733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Écriture ill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5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F8DDB-5E1D-4396-95E3-183DC48D1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manuel basé sur papi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mpte-rendu est le produit primaire – rendez le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esoin d’une copie pour les arch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es registres dans un endroit sû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5145-ADC8-4B4D-81CA-6A64DBACA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 les participants seront en mesure de 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éléments importants d’un système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quels sont les points à considérer lors de l’élaboration d’un système manuel d’information papier (non électron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les avantages et les inconvénients d’un système informatisé de gestion de l’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A8DB-151C-4FC7-B043-C2CA2D362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ut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uver un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les problèm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ègles utile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garder tout pendant un certain tem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 un accès fac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 système logique de class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ter dans l’ordre chronolog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04920" y="45720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manuel basé sur papier –stock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" descr="MCj02374610000[1]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14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ACF-E3D9-46CE-8611-E0951A4B8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3" descr="stack of records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mouse_cdc_hantavirus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/>
          <p:cNvSpPr/>
          <p:nvPr/>
        </p:nvSpPr>
        <p:spPr>
          <a:xfrm>
            <a:off x="1447920" y="4114800"/>
            <a:ext cx="220968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FFEC-E03A-4489-A34C-29485CC8D2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informatis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ptions de logici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veloppés localement sur la base de logiciels commercialement disponibl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s déjà développé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echerche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intenance du système informatique, sauvegar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è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fidentia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ça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tesse, flexibil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8" descr="j0285750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0205466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_twirling"/>
          <p:cNvPicPr/>
          <p:nvPr/>
        </p:nvPicPr>
        <p:blipFill>
          <a:blip r:embed="rId3"/>
          <a:stretch/>
        </p:blipFill>
        <p:spPr>
          <a:xfrm>
            <a:off x="6095880" y="6095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_twirling"/>
          <p:cNvPicPr/>
          <p:nvPr/>
        </p:nvPicPr>
        <p:blipFill>
          <a:blip r:embed="rId4"/>
          <a:stretch/>
        </p:blipFill>
        <p:spPr>
          <a:xfrm>
            <a:off x="8229600" y="43434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ACEB-CDE6-4EB8-9234-0F9DF5D03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2"/>
          <p:cNvGrpSpPr/>
          <p:nvPr/>
        </p:nvGrpSpPr>
        <p:grpSpPr>
          <a:xfrm>
            <a:off x="533520" y="609480"/>
            <a:ext cx="8304840" cy="5668560"/>
            <a:chOff x="533520" y="609480"/>
            <a:chExt cx="8304840" cy="5668560"/>
          </a:xfrm>
        </p:grpSpPr>
        <p:sp>
          <p:nvSpPr>
            <p:cNvPr id="331" name="AutoShape 3"/>
            <p:cNvSpPr/>
            <p:nvPr/>
          </p:nvSpPr>
          <p:spPr>
            <a:xfrm>
              <a:off x="533520" y="609480"/>
              <a:ext cx="8304840" cy="56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tégr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vec autr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es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financiè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ntrô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accè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naly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end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race l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rend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p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nd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isibl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étaill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’extrac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e données</a:t>
              </a:r>
              <a:r>
                <a:rPr b="0" lang="fr-FR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éduc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d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rreurs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29" descr="j0205582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2" name="Text Box 13"/>
          <p:cNvSpPr/>
          <p:nvPr/>
        </p:nvSpPr>
        <p:spPr>
          <a:xfrm>
            <a:off x="304920" y="4572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vant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2696-10C4-4830-BC96-E4069B54F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"/>
          <p:cNvGrpSpPr/>
          <p:nvPr/>
        </p:nvGrpSpPr>
        <p:grpSpPr>
          <a:xfrm>
            <a:off x="380880" y="533520"/>
            <a:ext cx="8457480" cy="5703480"/>
            <a:chOff x="380880" y="533520"/>
            <a:chExt cx="8457480" cy="5703480"/>
          </a:xfrm>
        </p:grpSpPr>
        <p:sp>
          <p:nvSpPr>
            <p:cNvPr id="356" name="AutoShape 3"/>
            <p:cNvSpPr/>
            <p:nvPr/>
          </p:nvSpPr>
          <p:spPr>
            <a:xfrm>
              <a:off x="380880" y="533520"/>
              <a:ext cx="8457480" cy="57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uvegarde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requi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ûts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chat et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daptation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à un nouveau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systè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Formation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emps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et arg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14" descr="MCj00787140000[1]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7" name="Text Box 13"/>
          <p:cNvSpPr/>
          <p:nvPr/>
        </p:nvSpPr>
        <p:spPr>
          <a:xfrm>
            <a:off x="228600" y="5335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convén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7" descr="j0205582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296A-6730-4A1F-A5FE-91374925C0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pour gérer les données entrantes et sorta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ème basé sur papier ou informatisé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requièrent un cadre similaire, identifiants uniques, formulaires, registres et feuilles de trava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ût est un élément majeur du système informatisé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478A-8000-4C94-9676-75D0162346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bon système de gestion de l’information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que toutes les données – produit final du laboratoire – sont bien gér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sagera, lors de la planification, toutes les modalités d’utilisation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’accessibilité, l’exactitude, l’à propos et la sécurité des donn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ra la confidentialité des données et l’intimité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E85A-277B-4F99-B27E-718191ADC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486040" y="1980720"/>
            <a:ext cx="3505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63" descr="bulles_def"/>
          <p:cNvPicPr/>
          <p:nvPr/>
        </p:nvPicPr>
        <p:blipFill>
          <a:blip r:embed="rId1"/>
          <a:stretch/>
        </p:blipFill>
        <p:spPr>
          <a:xfrm>
            <a:off x="4572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5C50-AA8A-432F-B110-D7C54A9D94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Vous gérez un laboratoire pour un hôpital de 300 lits et l’administrateur vous a informé que des fonds étaient disponibles pour acheter un système de gestion de laboratoire informatisé. »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mment évalueriez vous la pertinence d’un tel système pour le laboratoire?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B2C2-46F3-4C54-903A-FE2BFB4D00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9" name="Picture 145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DAC5-5579-4A1A-B000-44847981D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ôle dans 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33520" y="12952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  <a:ea typeface="SimSun"/>
              </a:rPr>
              <a:t>Le résultat d’analyse est le produit final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1447920" y="40384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752480" y="4800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compte-rendu de la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433870"/>
          <p:cNvPicPr/>
          <p:nvPr/>
        </p:nvPicPr>
        <p:blipFill>
          <a:blip r:embed="rId1"/>
          <a:stretch/>
        </p:blipFill>
        <p:spPr>
          <a:xfrm>
            <a:off x="182880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4290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3"/>
          <p:cNvSpPr/>
          <p:nvPr/>
        </p:nvSpPr>
        <p:spPr>
          <a:xfrm>
            <a:off x="4038480" y="4876920"/>
            <a:ext cx="2514600" cy="9144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2824-E74A-49DF-8E38-C55C7381D2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58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e l’inform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8" descr="MCj01885290000[1]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0" descr="MCj01885270000[1]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1"/>
          <p:cNvSpPr/>
          <p:nvPr/>
        </p:nvSpPr>
        <p:spPr>
          <a:xfrm>
            <a:off x="609480" y="2438280"/>
            <a:ext cx="1600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asé sur pap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2"/>
          <p:cNvSpPr/>
          <p:nvPr/>
        </p:nvSpPr>
        <p:spPr>
          <a:xfrm>
            <a:off x="457200" y="58672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lectro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tablir des processus pour gérer l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2438280" y="37018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Information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0"/>
          <p:cNvSpPr/>
          <p:nvPr/>
        </p:nvSpPr>
        <p:spPr>
          <a:xfrm rot="5400000">
            <a:off x="-1486440" y="2933640"/>
            <a:ext cx="4038840" cy="762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1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5257800" y="3429000"/>
            <a:ext cx="3124080" cy="35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x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port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û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fident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4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6" descr="j0433870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984A-0D7F-49EB-B2C1-5349B828E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228600" y="609480"/>
            <a:ext cx="8686440" cy="5714640"/>
            <a:chOff x="228600" y="609480"/>
            <a:chExt cx="8686440" cy="5714640"/>
          </a:xfrm>
        </p:grpSpPr>
        <p:sp>
          <p:nvSpPr>
            <p:cNvPr id="170" name="AutoShape 7"/>
            <p:cNvSpPr/>
            <p:nvPr/>
          </p:nvSpPr>
          <p:spPr>
            <a:xfrm>
              <a:off x="228600" y="609480"/>
              <a:ext cx="8686440" cy="57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br>
                <a:rPr sz="2100"/>
              </a:br>
              <a:r>
                <a:rPr b="0" lang="fr-FR" sz="2100" spc="-1" strike="noStrike">
                  <a:solidFill>
                    <a:srgbClr val="000000"/>
                  </a:solidFill>
                  <a:latin typeface="Verdana"/>
                </a:rPr>
                <a:t>effica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Système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compte rendu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effica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Confidentie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tection des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 donné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Processu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vérific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Registres,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feuilles de</a:t>
              </a:r>
              <a:br>
                <a:rPr sz="2200"/>
              </a:br>
              <a:r>
                <a:rPr b="0" lang="fr-FR" sz="2200" spc="-1" strike="noStrike">
                  <a:solidFill>
                    <a:srgbClr val="000000"/>
                  </a:solidFill>
                  <a:latin typeface="Verdana"/>
                </a:rPr>
                <a:t>travail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Formulaire 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demande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standardis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Identifiant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patients,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échantillons</a:t>
              </a:r>
              <a:br>
                <a:rPr sz="2000"/>
              </a:br>
              <a:r>
                <a:rPr b="0" lang="fr-FR" sz="2000" spc="-1" strike="noStrike">
                  <a:solidFill>
                    <a:srgbClr val="000000"/>
                  </a:solidFill>
                  <a:latin typeface="Verdana"/>
                </a:rPr>
                <a:t> un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3124080" y="2590920"/>
            <a:ext cx="312444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Éléments Import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5C16-FDFC-4516-A8F2-C13714312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dentifiants un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3352680"/>
            <a:ext cx="9144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laboratoires doivent assigner des identifiants uniques aux échantillon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de: AAMMJJXXXX - 0905120047 signifie échantillon n° 47 reçu le 12 mai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12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Test_Bracket_patient-safety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4"/>
          <p:cNvSpPr/>
          <p:nvPr/>
        </p:nvSpPr>
        <p:spPr>
          <a:xfrm>
            <a:off x="2819520" y="1523880"/>
            <a:ext cx="243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du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pied de page 3"/>
          <p:cNvSpPr/>
          <p:nvPr/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information-Modul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7DD8-3BB2-49E7-BB6B-99DDC1864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1" descr="5_sample_reqs"/>
          <p:cNvPicPr/>
          <p:nvPr/>
        </p:nvPicPr>
        <p:blipFill>
          <a:blip r:embed="rId1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rmulaire de 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2" name="Group 19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03" name="Group 20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04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5" name="Group 22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06" name="Line 23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24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25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26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prstGeom prst="pie">
                  <a:avLst/>
                </a:pr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 Box 27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8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29"/>
          <p:cNvSpPr/>
          <p:nvPr/>
        </p:nvSpPr>
        <p:spPr>
          <a:xfrm>
            <a:off x="5791320" y="4343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xigence I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0" descr="5_req_form"/>
          <p:cNvPicPr/>
          <p:nvPr/>
        </p:nvPicPr>
        <p:blipFill>
          <a:blip r:embed="rId3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5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51:51Z</dcterms:modified>
  <cp:revision>110</cp:revision>
  <dc:subject/>
  <dc:title>Slide 1</dc:title>
</cp:coreProperties>
</file>